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76C-DE8C-4AD7-B8A6-A4644EEF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343-FC81-4C7E-97D9-3DB4BD60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FE0-92C0-4649-A5A8-42185800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FC5-14E1-4EA3-8207-9C998D9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73F4-DEF9-4B76-B767-B56FA663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0445-8784-41EC-BBD1-8AF41A79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ED8B-6A61-4322-B2A5-A814EA4A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187E-C2FB-4B78-9B62-5849FB2F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0BB3-2BC5-48AF-80A8-87094BD7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A1E3-B5EB-4A78-9B99-511E6DBC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BBD3-2942-418B-8C38-841BBBEB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7FD-D4D4-4DBF-96D8-15CC3C2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1A76-7C74-42E3-8082-CDF9317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0AB7-37DF-4D6E-90D7-A21CA136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10A1-A7A2-4340-AFCF-A7E54B16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DF24-0006-42B1-BD27-87FDA68A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F1B7-4ECE-403C-98C5-B54EBDD1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F1A-2F59-4B44-8797-2BE39435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5116-87E8-4708-BE01-9BDBD1EE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65D-6DAA-4B39-B3B6-D935711C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9DD-CD65-4552-A198-E2D9CACB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4C6-535E-4842-8F06-2A724CEA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64E-7F65-4612-A382-417EE781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D8A6-F84F-47CA-BEF3-F368A6C1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9474-407D-475F-B962-EFC858703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5806-EC22-4234-A519-2812DBBD0C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" Target="slide7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-360" y="1268280"/>
            <a:ext cx="9325080" cy="2160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Экономическое развитие Молдовы между Прутом и Днестром </a:t>
            </a:r>
            <a:r>
              <a:rPr b="0" lang="en-US" sz="4000" spc="-1" strike="noStrike">
                <a:solidFill>
                  <a:srgbClr val="ffff00"/>
                </a:solidFill>
                <a:latin typeface="Monotype Corsiva"/>
              </a:rPr>
              <a:t>                                          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  в первой половине </a:t>
            </a:r>
            <a:r>
              <a:rPr b="0" lang="ro-RO" sz="4000" spc="-1" strike="noStrike">
                <a:solidFill>
                  <a:srgbClr val="ffff00"/>
                </a:solidFill>
                <a:latin typeface="Monotype Corsiva"/>
              </a:rPr>
              <a:t>XIX</a:t>
            </a:r>
            <a:r>
              <a:rPr b="0" lang="ru-RU" sz="4000" spc="-1" strike="noStrike">
                <a:solidFill>
                  <a:srgbClr val="ffff00"/>
                </a:solidFill>
                <a:latin typeface="Monotype Corsiva"/>
              </a:rPr>
              <a:t> ве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5589720"/>
            <a:ext cx="464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Творческая рабо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чеников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ill Sans Ultra Bold"/>
              </a:rPr>
              <a:t>Самойленко Сергея</a:t>
            </a:r>
            <a:r>
              <a:rPr b="1" i="1" lang="en-US" sz="2400" spc="-1" strike="noStrike">
                <a:solidFill>
                  <a:srgbClr val="ffff00"/>
                </a:solidFill>
                <a:latin typeface="Gill Sans Ultra Bold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ill Sans Ultra Bold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ill Sans Ultra Bold"/>
              </a:rPr>
              <a:t>Иваногло Александ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28600"/>
            <a:ext cx="8382240" cy="9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В Турцию молдавские купцы вывозили овец, продукцию животноводства, зерновые культуры, строительную древесин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Из других стран привозилась сельскохозяйственная техника, предметы роскоши. Главными торговыми центрами были города</a:t>
            </a:r>
            <a:r>
              <a:rPr b="1" i="1" lang="en-US" sz="26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Кишинёв, Тигина, Бэлць, Хотин, Килия, Четатя Албэ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Торговые связи осуществлялись речными и сухопутными путями. В середине 19-го века на Днестре появились первые суда с паровым двигателем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Из наиболее крупных городов-портов на Днестре были известны Тигина (Бендер), Четатя Албэ (Аккерман), а на Дунае – Измаил, Килия, Рен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По территории левобережья Днестра проходили крупные торговые пути. Первый начинался в Литве и проходил через Львов – Коломею – Хотин – Тигину – Четатя Албэ – Черное море. Другой торговый путь пролегал с запада на восток Сучаву, Котнарь, Яссы, Лэпушну, Тигину, Киев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91000"/>
            <a:ext cx="91440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Левобережье Днестра становится важным центром торговых связей с городами Каффа в Крыму и Киевом в Украине. В конце 19-го века крупным портом на Черном море становится город Одесса и он играет важную роль в Молдавской торговле. В 1830-м году была ликвидирована таможня Карантин на берегу Днестра, недалеко от Дубэсарь. Благодаря дополнительным мерам по защите местного рынка, устанавливаются более тесные связи между обоими берегами Днестр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92360" y="260280"/>
            <a:ext cx="5616360" cy="33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rot="19639200">
            <a:off x="2476440" y="1699920"/>
            <a:ext cx="6667560" cy="960480"/>
          </a:xfrm>
          <a:prstGeom prst="flowChartTerminator">
            <a:avLst/>
          </a:prstGeom>
          <a:gradFill rotWithShape="0">
            <a:gsLst>
              <a:gs pos="0">
                <a:srgbClr val="2f2f46"/>
              </a:gs>
              <a:gs pos="50000">
                <a:srgbClr val="666699"/>
              </a:gs>
              <a:gs pos="100000">
                <a:srgbClr val="2f2f46"/>
              </a:gs>
            </a:gsLst>
            <a:lin ang="7362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 Script"/>
              </a:rPr>
              <a:t>Продукция сельского хозяйства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egoe Script"/>
              </a:rPr>
              <a:t>основной товар на внешнем рынк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549360"/>
            <a:ext cx="1981080" cy="1600200"/>
          </a:xfrm>
          <a:prstGeom prst="downArrowCallout">
            <a:avLst>
              <a:gd name="adj1" fmla="val 30953"/>
              <a:gd name="adj2" fmla="val 30951"/>
              <a:gd name="adj3" fmla="val 16667"/>
              <a:gd name="adj4" fmla="val 66667"/>
            </a:avLst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Преимущества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речных путе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торгов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2565360"/>
            <a:ext cx="1981080" cy="1600200"/>
          </a:xfrm>
          <a:prstGeom prst="downArrowCallout">
            <a:avLst>
              <a:gd name="adj1" fmla="val 30953"/>
              <a:gd name="adj2" fmla="val 30951"/>
              <a:gd name="adj3" fmla="val 16667"/>
              <a:gd name="adj4" fmla="val 66667"/>
            </a:avLst>
          </a:prstGeom>
          <a:gradFill rotWithShape="0">
            <a:gsLst>
              <a:gs pos="0">
                <a:srgbClr val="abcadf"/>
              </a:gs>
              <a:gs pos="100000">
                <a:srgbClr val="4e5d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egoe Script"/>
              </a:rPr>
              <a:t>Появл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egoe Script"/>
              </a:rPr>
              <a:t>паров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egoe Script"/>
              </a:rPr>
              <a:t>суд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4581360"/>
            <a:ext cx="2592360" cy="1600200"/>
          </a:xfrm>
          <a:prstGeom prst="rightArrowCallout">
            <a:avLst>
              <a:gd name="adj1" fmla="val 25002"/>
              <a:gd name="adj2" fmla="val 25000"/>
              <a:gd name="adj3" fmla="val 27000"/>
              <a:gd name="adj4" fmla="val 66667"/>
            </a:avLst>
          </a:prstGeom>
          <a:gradFill rotWithShape="0">
            <a:gsLst>
              <a:gs pos="0">
                <a:srgbClr val="52565a"/>
              </a:gs>
              <a:gs pos="50000">
                <a:srgbClr val="d8e6f0"/>
              </a:gs>
              <a:gs pos="100000">
                <a:srgbClr val="52565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Крупн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торгов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связ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4724280"/>
            <a:ext cx="2808000" cy="1600200"/>
          </a:xfrm>
          <a:prstGeom prst="rightArrowCallout">
            <a:avLst>
              <a:gd name="adj1" fmla="val 25002"/>
              <a:gd name="adj2" fmla="val 25000"/>
              <a:gd name="adj3" fmla="val 29246"/>
              <a:gd name="adj4" fmla="val 66667"/>
            </a:avLst>
          </a:prstGeom>
          <a:gradFill rotWithShape="0">
            <a:gsLst>
              <a:gs pos="0">
                <a:srgbClr val="d8e6f0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Ликвид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таможн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Карант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43640" y="4869000"/>
            <a:ext cx="2521080" cy="1600200"/>
          </a:xfrm>
          <a:prstGeom prst="flowChartTerminator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Установ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более тес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отнош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между берег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egoe Script"/>
              </a:rPr>
              <a:t>Днест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209680"/>
            <a:ext cx="3581640" cy="3124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Monotype Corsiva"/>
              </a:rPr>
              <a:t>Конец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187520" cy="5181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284720" y="549360"/>
            <a:ext cx="46483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175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Monotype Corsiva"/>
              </a:rPr>
              <a:t>После аннексии территории Молдовы между реками прут и Днестр в 1812 г. (Которую в 1813 г. царское правительство назвало Бессарабией) и территории левого берега Днестра (1791 г.) Российской империей произошла их экономическая интеграция в экономическую жизнь России. Продолжилось развитие сельского хозяйства, промышленности и торговли. Но основной отраслью экономики оставалось сельское хозяйств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178160"/>
            <a:ext cx="9144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Monotype Corsiva"/>
              </a:rPr>
              <a:t>Сельское хозяйство развивалось экстенсивно, расширяя площади обрабатываемых земель.  В Молдове, на территории Прутом и Днестром, сохранились те же отношения крестьян и их хозяев, которые были, установлены в середине 18-го века в результате проведения реформ Константина Маврокордата. По численности преобладали свободные крестьяне (клэкаши и издольщики), которые отрабатывали 12 дней на боярина (клака) и платили оброк (дижма), натуральный и денежны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Monotype Corsiva"/>
              </a:rPr>
              <a:t>Сельское хозяйств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34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457200"/>
            <a:ext cx="8229600" cy="84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12 боярских дней отрабатывали и крестьяне молдавских сёл на левобережье Днестра, входившие в состав Херсонской и Подольской губернии. Кроме того, крестьяне этих губерний не имели права переселяться на другое место. Это право они получили в 1871 год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Молдова между реками Прут и Днестр и территории левобережья Днестра становятся важной экономической зоной по производству сельскохозяйственной продукции в составе обширной Российской империи. К середине 19-го века площадь виноградников увеличилась более чем в        2,5 раза, а производство вина – более чем в 3 раза. Общий урожай увеличился с 700 тыс. центнеров в 1814 г. До 4,5 млн. центнеров в 1850 г. На огромных территориях пахотных земель выращивались подсолнечник, сахарная свекла, табак</a:t>
            </a:r>
            <a:r>
              <a:rPr b="1" lang="en-US" sz="2600" spc="-1" strike="noStrike">
                <a:solidFill>
                  <a:srgbClr val="ffffff"/>
                </a:solidFill>
                <a:latin typeface="Monotype Corsiva"/>
              </a:rPr>
              <a:t>;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сажались фруктовые деревья и виноград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268280"/>
            <a:ext cx="1676520" cy="1295640"/>
          </a:xfrm>
          <a:prstGeom prst="flowChartAlternateProcess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Преобладани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по численност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свободн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крестья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765000"/>
            <a:ext cx="4038480" cy="2232360"/>
          </a:xfrm>
          <a:custGeom>
            <a:avLst/>
            <a:gdLst>
              <a:gd name="textAreaLeft" fmla="*/ 1009440 w 4038480"/>
              <a:gd name="textAreaRight" fmla="*/ 3029040 w 4038480"/>
              <a:gd name="textAreaTop" fmla="*/ 0 h 2232360"/>
              <a:gd name="textAreaBottom" fmla="*/ 2232720 h 223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Сохране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отнош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крестьян и их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хозяев, заложенн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Константин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Segoe Script"/>
              </a:rPr>
              <a:t>Маврокордат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1268280"/>
            <a:ext cx="2057400" cy="2232000"/>
          </a:xfrm>
          <a:prstGeom prst="downArrowCallout">
            <a:avLst>
              <a:gd name="adj1" fmla="val 25002"/>
              <a:gd name="adj2" fmla="val 25000"/>
              <a:gd name="adj3" fmla="val 18081"/>
              <a:gd name="adj4" fmla="val 6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Увеличе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обрабатываемы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территор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3716280"/>
            <a:ext cx="2717640" cy="1676520"/>
          </a:xfrm>
          <a:prstGeom prst="leftArrowCallout">
            <a:avLst>
              <a:gd name="adj1" fmla="val 25002"/>
              <a:gd name="adj2" fmla="val 25000"/>
              <a:gd name="adj3" fmla="val 27017"/>
              <a:gd name="adj4" fmla="val 66673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Увеличение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egoe Script"/>
              </a:rPr>
              <a:t>урожа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3860640"/>
            <a:ext cx="4711680" cy="1371600"/>
          </a:xfrm>
          <a:prstGeom prst="flowChartTerminator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egoe Script"/>
              </a:rPr>
              <a:t>Молдова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egoe Script"/>
              </a:rPr>
              <a:t>важная экономиче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egoe Script"/>
              </a:rPr>
              <a:t>зо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1890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Промышленност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89000"/>
            <a:ext cx="42591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В промышленности преобладало ремесленное производство, которое имело художественный и домашний характер. Количество ремесленных мастерских было гораздо больше, чем мануфактур. Крупная промышленность (фабрики, заводы) развивалась очень медленно.</a:t>
            </a:r>
            <a:r>
              <a:rPr b="1" i="1" lang="en-US" sz="2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Monotype Corsiv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79280" y="3860640"/>
          <a:ext cx="446580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860640"/>
                    <a:ext cx="4465800" cy="28083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88000" y="692280"/>
          <a:ext cx="4105080" cy="28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692280"/>
                    <a:ext cx="4105080" cy="287964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500720" y="3645000"/>
            <a:ext cx="4643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Количество мануфактур возросло со 150 в 1830 году, до 450 в 1858 году. На территории Пруто-Днестровского междуречья</a:t>
            </a: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и в молдавских районах левобережья Днестра были построены и действовали пекарни, мыловаренные, текстильные и свечные мануфактур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 rot="21465600">
            <a:off x="8316720" y="6381360"/>
            <a:ext cx="57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33520"/>
            <a:ext cx="8229600" cy="72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и фабрики, заводы по переработке винограда, производству стекла и кирпич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i="1" lang="ru-RU" sz="2600" spc="-1" strike="noStrike">
                <a:solidFill>
                  <a:srgbClr val="ffffff"/>
                </a:solidFill>
                <a:latin typeface="Monotype Corsiva"/>
              </a:rPr>
              <a:t>На этих территориях действовало более 25-ти мельниц, работающих на паровых двигателях. Самые крупные п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ромышленные предприятия были сосредоточены в Кишинёве, Тигине, Четатя Албэ, Орхее, Бэлць, Хотине, а также на левом берегу Днестра</a:t>
            </a:r>
            <a:r>
              <a:rPr b="1" lang="en-US" sz="26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в Тирасполе, Рыбнице, Дубэсарь, Бирлузе, Балте, Ананьеве, Мовилэу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В южных уездах были основаны предприятия по переработке рыбы, добыче сол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Большинство мануфактур и фабрик являлись собственностью купцов, некоторых бояр и государств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Monotype Corsiva"/>
              </a:rPr>
              <a:t>В основном промышленные предприятия работали на местном сырье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808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838080"/>
            <a:ext cx="2895840" cy="2057400"/>
          </a:xfrm>
          <a:prstGeom prst="downArrowCallout">
            <a:avLst>
              <a:gd name="adj1" fmla="val 35191"/>
              <a:gd name="adj2" fmla="val 35188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cript"/>
              </a:rPr>
              <a:t>Преоблада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cript"/>
              </a:rPr>
              <a:t>ремесленн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Script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124080"/>
            <a:ext cx="4267440" cy="1447920"/>
          </a:xfrm>
          <a:custGeom>
            <a:avLst/>
            <a:gdLst>
              <a:gd name="textAreaLeft" fmla="*/ 1066680 w 4267440"/>
              <a:gd name="textAreaRight" fmla="*/ 3200760 w 4267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Количеств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ремесленных мастерских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было больше, че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мануфактур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3429000"/>
            <a:ext cx="1828800" cy="1523880"/>
          </a:xfrm>
          <a:prstGeom prst="downArrowCallout">
            <a:avLst>
              <a:gd name="adj1" fmla="val 30005"/>
              <a:gd name="adj2" fmla="val 30002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cript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cript"/>
              </a:rPr>
              <a:t>мануфакту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3200400"/>
            <a:ext cx="1828800" cy="129528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Медленное развитие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крупной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Script"/>
              </a:rPr>
              <a:t>промышленност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181480"/>
            <a:ext cx="2378160" cy="1524240"/>
          </a:xfrm>
          <a:prstGeom prst="rightArrowCallout">
            <a:avLst>
              <a:gd name="adj1" fmla="val 25002"/>
              <a:gd name="adj2" fmla="val 25000"/>
              <a:gd name="adj3" fmla="val 26004"/>
              <a:gd name="adj4" fmla="val 6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cript"/>
              </a:rPr>
              <a:t>Развит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Script"/>
              </a:rPr>
              <a:t>фабри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5084640"/>
            <a:ext cx="3024000" cy="152424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cript"/>
              </a:rPr>
              <a:t>Появл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cript"/>
              </a:rPr>
              <a:t>мельниц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cript"/>
              </a:rPr>
              <a:t>паров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Script"/>
              </a:rPr>
              <a:t>двигател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384800"/>
            <a:ext cx="9144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i="1" lang="en-US" sz="2600" spc="-1" strike="noStrike">
                <a:solidFill>
                  <a:srgbClr val="ffffff"/>
                </a:solidFill>
                <a:latin typeface="Monotype Corsiva"/>
              </a:rPr>
              <a:t>В первой половине 19-го века основным товаром, реализуемым на местном рынке, была продукция сельского хозяйства. Она пользовалась большим спросом и на рынках других стран.   С территории Пруто-Днестровского междуречья экспортировали во многие страны Европы скот и продукцию животноводства. В Россию экспортировали фрукты, овощи, вино, табак, соль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408720" cy="4032360"/>
          </a:xfrm>
          <a:prstGeom prst="rect">
            <a:avLst/>
          </a:prstGeom>
          <a:ln w="9360">
            <a:solidFill>
              <a:srgbClr val="ff6633"/>
            </a:solidFill>
            <a:miter/>
          </a:ln>
        </p:spPr>
      </p:pic>
      <p:sp>
        <p:nvSpPr>
          <p:cNvPr id="130" name=""/>
          <p:cNvSpPr txBox="1"/>
          <p:nvPr/>
        </p:nvSpPr>
        <p:spPr>
          <a:xfrm rot="5400000">
            <a:off x="6247080" y="1969200"/>
            <a:ext cx="4105440" cy="687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Торговл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8:04:48Z</dcterms:created>
  <dc:creator>Ruslan</dc:creator>
  <dc:description/>
  <dc:language>en-US</dc:language>
  <cp:lastModifiedBy>Samoilenco</cp:lastModifiedBy>
  <dcterms:modified xsi:type="dcterms:W3CDTF">2009-01-27T18:34:54Z</dcterms:modified>
  <cp:revision>15</cp:revision>
  <dc:subject/>
  <dc:title>История Молдовы</dc:title>
</cp:coreProperties>
</file>